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DC6-5A91-4E1B-9774-2876A529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6A7-1083-432C-8AC8-D4CEE41C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C48-0A54-4EF8-9F25-03E094DD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223-CF7F-454F-B039-D775398D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5F8D-4B77-47B9-9CA7-50E32511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2728-C903-4A94-8492-0F267BF7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AABB-A792-4850-9F28-1BE89D0F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5C11-3B71-4BB9-976D-D6687BE8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6C4F-168B-4CC7-8E47-AAD7784D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8F60-3054-4994-A4A0-AD1DD75F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EA5C-F591-4358-BBDC-7501A552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0388-3FC6-4443-B757-EB535E64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5009-C960-4E66-83AF-9F8B9D9A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5B09-B6EC-42D3-8530-B5D1F749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82FC-744B-4220-ADD2-F57334F1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5F27-43CD-4148-A190-49D1755D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FBD8-C319-47C9-B7CB-E2B8954D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5D8-4EE8-4B98-98D7-E595DBBE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18B-A425-45F9-A70D-C3E08BC5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55C-478B-493E-A247-D811DA8E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297-0303-4568-B18F-0B853307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C00-7E6D-4BD3-A55E-047FD857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953-1454-4C9A-AFE7-C9CA6911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08B-4C86-4BE3-8C26-04DCF462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BBCF-0A9D-4E9D-B249-8DCE0078A8CC}" type="slidenum"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66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8C1D-4AE8-497B-BF26-C6BA4DFE5D68}" type="slidenum"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66"/>
                </a:solidFill>
                <a:latin typeface="Arial"/>
              </a:rPr>
              <a:t>Az opreációs rendszer néhány alapművelete: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ájlok másolás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66"/>
                </a:solidFill>
                <a:latin typeface="Arial"/>
              </a:rPr>
              <a:t>COPY [/A | /B] forrás [/A | /B] [+ forrás [/A | /B] [+ ...]] [cél] [/A | /B]] [/V] [/Y | /-Y]</a:t>
            </a:r>
            <a:br>
              <a:rPr sz="1600"/>
            </a:br>
            <a:br>
              <a:rPr sz="1800"/>
            </a:br>
            <a:r>
              <a:rPr b="1" lang="hu-HU" sz="1800" spc="-1" strike="noStrike">
                <a:solidFill>
                  <a:srgbClr val="ffff66"/>
                </a:solidFill>
                <a:latin typeface="Arial"/>
              </a:rPr>
              <a:t>forrás</a:t>
            </a: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A másolandó fájl(ok) megadása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Arial"/>
              </a:rPr>
              <a:t>/A</a:t>
            </a: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 A fájl ASCII szövegfájl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Arial"/>
              </a:rPr>
              <a:t>/B</a:t>
            </a: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 A fájl bináris fájlú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Arial"/>
              </a:rPr>
              <a:t>Cél</a:t>
            </a: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 Az új fájl(ok) könyvtár-, illetve fájlnevének megadása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Arial"/>
              </a:rPr>
              <a:t>/V</a:t>
            </a: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 Ellenőrzés az új fájlok írásakor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Arial"/>
              </a:rPr>
              <a:t>/Y</a:t>
            </a: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 A megerősítés kikapcsolása létező fájlok felülírásakor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Arial"/>
              </a:rPr>
              <a:t>/-Y</a:t>
            </a: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 A megerősítés bekapcsolása létező fájlok felülírásakor</a:t>
            </a:r>
            <a:br>
              <a:rPr sz="1800"/>
            </a:b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Példa:</a:t>
            </a:r>
            <a:br>
              <a:rPr sz="1800"/>
            </a:br>
            <a:br>
              <a:rPr sz="1800"/>
            </a:b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C:\&gt;COPY C:\WINDOWS\win.ini A:\KT\beallit.ini /V</a:t>
            </a:r>
            <a:br>
              <a:rPr sz="1800"/>
            </a:b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A win.ini-t az A:\KT-ba másolja, beallit.ini néven. </a:t>
            </a:r>
            <a:br>
              <a:rPr sz="1800"/>
            </a:br>
            <a:br>
              <a:rPr sz="1800"/>
            </a:b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C:\&gt;COPY C*.* A:\ </a:t>
            </a:r>
            <a:br>
              <a:rPr sz="1800"/>
            </a:b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Az összes C vel kezdődő fájlt másolja</a:t>
            </a:r>
            <a:br>
              <a:rPr sz="1800"/>
            </a:b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ájlok törlés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Arial"/>
              </a:rPr>
              <a:t>DEL [meghajtó:][útvonal]fájlnév [/P]</a:t>
            </a:r>
            <a:br>
              <a:rPr sz="3200"/>
            </a:br>
            <a:br>
              <a:rPr sz="3200"/>
            </a:br>
            <a:r>
              <a:rPr b="0" lang="hu-HU" sz="3200" spc="-1" strike="noStrike">
                <a:solidFill>
                  <a:srgbClr val="ffff66"/>
                </a:solidFill>
                <a:latin typeface="Arial"/>
              </a:rPr>
              <a:t>Egy vagy több fájlt töröl.</a:t>
            </a:r>
            <a:br>
              <a:rPr sz="3200"/>
            </a:br>
            <a:r>
              <a:rPr b="0" lang="hu-HU" sz="3200" spc="-1" strike="noStrike">
                <a:solidFill>
                  <a:srgbClr val="ffff66"/>
                </a:solidFill>
                <a:latin typeface="Arial"/>
              </a:rPr>
              <a:t>/Pmegerősítést kér</a:t>
            </a:r>
            <a:br>
              <a:rPr sz="3200"/>
            </a:br>
            <a:r>
              <a:rPr b="0" lang="hu-HU" sz="3200" spc="-1" strike="noStrike">
                <a:solidFill>
                  <a:srgbClr val="ffff66"/>
                </a:solidFill>
                <a:latin typeface="Arial"/>
              </a:rPr>
              <a:t>Példák:</a:t>
            </a:r>
            <a:br>
              <a:rPr sz="3200"/>
            </a:b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C:\&gt;DEL A:\CICA.TXT</a:t>
            </a: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A CICA.TXT-t törli.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C:\&gt;DEL A:\*.*</a:t>
            </a: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Minden fájlt töröl az A:\ könyvtárból.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A:\DEL *.*</a:t>
            </a: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Hatása azonos az előzővel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ájlok tartalmának megtekintés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66"/>
                </a:solidFill>
                <a:latin typeface="Arial"/>
              </a:rPr>
              <a:t>TYPE [meghajtó:][útvonal]fájlnév [| more]</a:t>
            </a:r>
            <a:br>
              <a:rPr sz="1800"/>
            </a:br>
            <a:br>
              <a:rPr sz="1800"/>
            </a:b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A | more oldalanként töri a szöveget, így az nem fut ki a képernyőről. 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(| = ALTGR + W)</a:t>
            </a:r>
            <a:br>
              <a:rPr sz="1800"/>
            </a:br>
            <a:br>
              <a:rPr sz="1800"/>
            </a:b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Példa:</a:t>
            </a:r>
            <a:br>
              <a:rPr sz="1800"/>
            </a:br>
            <a:br>
              <a:rPr sz="1800"/>
            </a:b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C:\&gt;TYPE A.TXT | more</a:t>
            </a:r>
            <a:br>
              <a:rPr sz="1800"/>
            </a:b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Erdemény:</a:t>
            </a:r>
            <a:br>
              <a:rPr sz="1800"/>
            </a:b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Ez itt az A.TXT tartalma. Sok sorból áll. Bla-Bla-bla….</a:t>
            </a:r>
            <a:br>
              <a:rPr sz="1800"/>
            </a:b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bla-bla</a:t>
            </a:r>
            <a:br>
              <a:rPr sz="1800"/>
            </a:b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bla-bla</a:t>
            </a:r>
            <a:br>
              <a:rPr sz="1800"/>
            </a:b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bla-bla</a:t>
            </a:r>
            <a:br>
              <a:rPr sz="1800"/>
            </a:b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--Tovább--</a:t>
            </a:r>
            <a:br>
              <a:rPr sz="1800"/>
            </a:b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bla-bla</a:t>
            </a:r>
            <a:br>
              <a:rPr sz="1800"/>
            </a:b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bla-bla</a:t>
            </a:r>
            <a:br>
              <a:rPr sz="1800"/>
            </a:b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bla-bla</a:t>
            </a:r>
            <a:br>
              <a:rPr sz="1800"/>
            </a:b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--Tovább-- </a:t>
            </a:r>
            <a:br>
              <a:rPr sz="1800"/>
            </a:br>
            <a:br>
              <a:rPr sz="1800"/>
            </a:br>
            <a:r>
              <a:rPr b="0" lang="hu-HU" sz="1800" spc="-1" strike="noStrike">
                <a:solidFill>
                  <a:srgbClr val="ffff66"/>
                </a:solidFill>
                <a:latin typeface="Arial"/>
              </a:rPr>
              <a:t>C:\&gt; 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ájlok létrehozás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66"/>
                </a:solidFill>
                <a:latin typeface="Arial"/>
              </a:rPr>
              <a:t>EDIT</a:t>
            </a:r>
            <a:br>
              <a:rPr sz="1600"/>
            </a:br>
            <a:r>
              <a:rPr b="1" lang="hu-HU" sz="1600" spc="-1" strike="noStrike">
                <a:solidFill>
                  <a:srgbClr val="ffff66"/>
                </a:solidFill>
                <a:latin typeface="Arial"/>
              </a:rPr>
              <a:t>COPY CON</a:t>
            </a:r>
            <a:br>
              <a:rPr sz="1600"/>
            </a:br>
            <a:r>
              <a:rPr b="1" lang="hu-HU" sz="1600" spc="-1" strike="noStrike">
                <a:solidFill>
                  <a:srgbClr val="ffff66"/>
                </a:solidFill>
                <a:latin typeface="Arial"/>
              </a:rPr>
              <a:t>parancs átirányítás</a:t>
            </a:r>
            <a:br>
              <a:rPr sz="1600"/>
            </a:br>
            <a:br>
              <a:rPr sz="1600"/>
            </a:br>
            <a:r>
              <a:rPr b="1" lang="hu-HU" sz="1600" spc="-1" strike="noStrike">
                <a:solidFill>
                  <a:srgbClr val="ffff66"/>
                </a:solidFill>
                <a:latin typeface="Arial"/>
              </a:rPr>
              <a:t>EDIT:</a:t>
            </a:r>
            <a:br>
              <a:rPr sz="1600"/>
            </a:b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Ez egy szövegszerkesztő. A Fájl menüben lehet új fájlt létrehozni és menteni. A szöveget egyszerűen be kell gépelni és elmenteni.</a:t>
            </a:r>
            <a:br>
              <a:rPr sz="1600"/>
            </a:br>
            <a:br>
              <a:rPr sz="1600"/>
            </a:br>
            <a:r>
              <a:rPr b="1" lang="hu-HU" sz="1600" spc="-1" strike="noStrike">
                <a:solidFill>
                  <a:srgbClr val="ffff66"/>
                </a:solidFill>
                <a:latin typeface="Arial"/>
              </a:rPr>
              <a:t>COPY CON fájlnév.txt</a:t>
            </a:r>
            <a:br>
              <a:rPr sz="1600"/>
            </a:b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EZ tulajdonképpen másolás billentyűzetről. Gépeljük be a szöveget. Vigyázat javítani csak a lezáratlan sorban lehet, ha lezártuk a sort (ENTER), akkor már nem! Menteni a CTRL + Z billentyűkkel lehet, mentés nélkül kilépni a CTRL + C-vel lehet. 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A CTRL + Z így jelenik meg: ^Z</a:t>
            </a:r>
            <a:br>
              <a:rPr sz="1600"/>
            </a:br>
            <a:br>
              <a:rPr sz="1600"/>
            </a:b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Minden olyan </a:t>
            </a:r>
            <a:r>
              <a:rPr b="1" lang="hu-HU" sz="1600" spc="-1" strike="noStrike">
                <a:solidFill>
                  <a:srgbClr val="ffff66"/>
                </a:solidFill>
                <a:latin typeface="Arial"/>
              </a:rPr>
              <a:t>parancs</a:t>
            </a: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, mely a képernyőre ír ki, </a:t>
            </a:r>
            <a:r>
              <a:rPr b="1" lang="hu-HU" sz="1600" spc="-1" strike="noStrike">
                <a:solidFill>
                  <a:srgbClr val="ffff66"/>
                </a:solidFill>
                <a:latin typeface="Arial"/>
              </a:rPr>
              <a:t>átirányítható</a:t>
            </a: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 egy szövegfájlba. Az átirányítás formája:</a:t>
            </a:r>
            <a:br>
              <a:rPr sz="1600"/>
            </a:b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MIT &gt; HOVA</a:t>
            </a:r>
            <a:br>
              <a:rPr sz="1600"/>
            </a:br>
            <a:br>
              <a:rPr sz="1600"/>
            </a:b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Példa:</a:t>
            </a:r>
            <a:br>
              <a:rPr sz="1600"/>
            </a:br>
            <a:br>
              <a:rPr sz="1600"/>
            </a:b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C:\&gt;DIR &gt;file.txt </a:t>
            </a: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Létrehoz egy file.txt nevű fájlt, amiben a C:\ könyvtár tartalma lesz.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C:\&gt;COPY /? &gt;file2.txt </a:t>
            </a: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A COPY parancs helpjének kimentése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átum ás idő beállítá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Arial"/>
              </a:rPr>
              <a:t>DATE</a:t>
            </a:r>
            <a:br>
              <a:rPr sz="3200"/>
            </a:br>
            <a:r>
              <a:rPr b="1" lang="hu-HU" sz="3200" spc="-1" strike="noStrike">
                <a:solidFill>
                  <a:srgbClr val="ffff66"/>
                </a:solidFill>
                <a:latin typeface="Arial"/>
              </a:rPr>
              <a:t>TIME</a:t>
            </a:r>
            <a:br>
              <a:rPr sz="3200"/>
            </a:br>
            <a:br>
              <a:rPr sz="3200"/>
            </a:br>
            <a:r>
              <a:rPr b="0" lang="hu-HU" sz="3200" spc="-1" strike="noStrike">
                <a:solidFill>
                  <a:srgbClr val="ffff66"/>
                </a:solidFill>
                <a:latin typeface="Arial"/>
              </a:rPr>
              <a:t>Használatuk egyszerű, adjunk meg egy új dátumot / időt, vagy üssünk üres ENTER-t, hogy ne változzanak az értékek.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ömörítés DOS módban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Arial"/>
              </a:rPr>
              <a:t>ARJ programmal:</a:t>
            </a:r>
            <a:br>
              <a:rPr sz="2800"/>
            </a:br>
            <a:br>
              <a:rPr sz="2800"/>
            </a:br>
            <a:r>
              <a:rPr b="1" lang="hu-HU" sz="2800" spc="-1" strike="noStrike">
                <a:solidFill>
                  <a:srgbClr val="ffff66"/>
                </a:solidFill>
                <a:latin typeface="Arial"/>
              </a:rPr>
              <a:t>ARJ A milyennéven.arj mit /je1</a:t>
            </a:r>
            <a:br>
              <a:rPr sz="2800"/>
            </a:br>
            <a:r>
              <a:rPr b="1" lang="hu-HU" sz="2800" spc="-1" strike="noStrike">
                <a:solidFill>
                  <a:srgbClr val="ffff66"/>
                </a:solidFill>
                <a:latin typeface="Arial"/>
              </a:rPr>
              <a:t>ARJ E mit.arj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Arial"/>
              </a:rPr>
              <a:t>A becsomago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Arial"/>
              </a:rPr>
              <a:t>E kicsomago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Arial"/>
              </a:rPr>
              <a:t>/je1 EXE fájlt csinál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Arial"/>
              </a:rPr>
              <a:t>/x Teljes elérési úttal tömörít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Arial"/>
              </a:rPr>
              <a:t>A további paramétereket az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66"/>
                </a:solidFill>
                <a:latin typeface="Arial"/>
              </a:rPr>
              <a:t>arj /?</a:t>
            </a:r>
            <a:r>
              <a:rPr b="0" lang="hu-HU" sz="2800" spc="-1" strike="noStrike">
                <a:solidFill>
                  <a:srgbClr val="ffff66"/>
                </a:solidFill>
                <a:latin typeface="Arial"/>
              </a:rPr>
              <a:t> paranccsal olvashatod! </a:t>
            </a:r>
            <a:br>
              <a:rPr sz="2800"/>
            </a:br>
            <a:r>
              <a:rPr b="0" lang="hu-HU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lap utasítások WINDOWS alatt, és WINDOWS Commanderben</a:t>
            </a: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5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236232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68360" y="907920"/>
          <a:ext cx="8351640" cy="5781960"/>
        </p:xfrm>
        <a:graphic>
          <a:graphicData uri="http://schemas.openxmlformats.org/drawingml/2006/table">
            <a:tbl>
              <a:tblPr/>
              <a:tblGrid>
                <a:gridCol w="2784600"/>
                <a:gridCol w="2782800"/>
                <a:gridCol w="278424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Művelet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indows Intéző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Windows Commander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emezformázás: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Jobb egérgombbal kattintsunk a baloldali könyvtárfán a meghajtó nevére,menüből válasszuk a formázás opciót.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Jobb egérgombbal kattintsunk a kívánt meghajtó címrorára, és a menüből válasszuk a formázás lehetőséget.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Meghajtóváltás: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attintsunk a könyvtárfán a meghajtó nevére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Válasszuk ki a címsoron lévő kis abalakban a meghajtót.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önyvtárváltás: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attintsunk a könyvtár nevére BAL egérgombal a fán, vagy a jobb ablakban.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attintsunk 2-t a könyvtár nevére, vagy üssünk rajta ENTER-t.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önyvtár létrehozás: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Álljuk a kívánt könyvtárba, ahova létrehozni szeretnénk. Jobb egérgomb leütése után válasszuk az Új mappa lehetőséget. Nevezzük át.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Álljunk a kívánt mappába, ahova létrehozni szeretnénk. Nyomjunk F7-et.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Fájl / Könyvtár törlése: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attintsunk egyet a könyvtár nevén (BAL) és üssünk DEL billentyűt. VAGY: Jobb egérgombbal a könyvtáron kattintva válasszuk a törlést.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attintsunk rá egyszer a könyvtárra, és üssünk F8-at, vagy DEL-t.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Fálj létrehozása: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Kattintsunk a jobb egérgombbal, és válasszuk milyen fájlt szeretnénk létrehozni.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 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Fájlokat a saját programjaikkal is létre le lehet hozni. (Lásd majd ott.)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Fájlok / Könyvtárak másolása: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Jelöljük ki a fájlokat/könyvtárakat (SHIFT + nyilak) és: húzzuk egérrel a könyvtárfán a megfelelő könyvtárba, vagy másoljuk a vágólapra (Szerkesztés/Másolás) és az alkalmas helyen illeszük be onnan. (Szerkesztés/Beillesztés)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Álljunk a bal oldalon a forrás könyvtárba, a jobb oldalon a cél könyvtárba Jelöljük ki a keresett állományokat jobb egér gombbal, vagy INS billentyűvel majd nyomjunk F5-öt. (Áthelyezés: F6 = F5 + F8)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Tömörítés: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Jelöljük ki a tömöríteni kívánt fájlokat. Kattintsunk a jobb egérgombbal és válasszuk az Add to ZIP, vagy Add to Archive lehetőségre. Ekkor a telepített segédprogram elindul, és néhány kattintással elkészül a tömörítés.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Hasonlóan a másoláshoz, de itt ALT + F5 -öt kell használni, mely után kiválaszthatjuk a tömörítés típusát, és nevet adhatunk az új fájlnak. </a:t>
                      </a:r>
                      <a:endParaRPr b="0" lang="en-US" sz="10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1800" y="57265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Néhány mondat, előljáróban: </a:t>
            </a: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Minden parancshoz van HELP, ami így érhető el: </a:t>
            </a:r>
            <a:br>
              <a:rPr sz="2400"/>
            </a:br>
            <a:br>
              <a:rPr sz="2400"/>
            </a:br>
            <a:r>
              <a:rPr b="1" lang="hu-HU" sz="2400" spc="-1" strike="noStrike">
                <a:solidFill>
                  <a:srgbClr val="ffff66"/>
                </a:solidFill>
                <a:latin typeface="Arial"/>
              </a:rPr>
              <a:t>PARANCSNÉV /?</a:t>
            </a: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Majdnem minden parancsnak vannak kötelező és [választható] paraméterei.</a:t>
            </a: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A választható paraméterek [ , ] jelek közöttb szerepelnek, de használatukkor</a:t>
            </a: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NEM KELL őket [ ]-be tenni!!!! Viszont a / jelre, ha szerepel a leírásban,</a:t>
            </a: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akkor szükség van.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mez formázás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66"/>
                </a:solidFill>
                <a:latin typeface="Arial"/>
              </a:rPr>
              <a:t>FORMAT meghajtónév: [kapcsolók]</a:t>
            </a:r>
            <a:br>
              <a:rPr sz="1600"/>
            </a:br>
            <a:r>
              <a:rPr b="1" lang="hu-HU" sz="1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Példák:</a:t>
            </a:r>
            <a:br>
              <a:rPr sz="1600"/>
            </a:b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FORMAT meghajtó: [/V[:címke]] [/Q] [/F:méret] [/B | /S] [/C]</a:t>
            </a:r>
            <a:br>
              <a:rPr sz="1600"/>
            </a:b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FORMAT meghajtó: [/V[:címke]] [/Q] [/T:sáv /N:szektor] [/B | /S] [/C]</a:t>
            </a:r>
            <a:br>
              <a:rPr sz="1600"/>
            </a:b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FORMAT meghajtó: [/V[:címke]] [/Q] [/1] [/4] [/B | /S] [/C]</a:t>
            </a:r>
            <a:br>
              <a:rPr sz="1600"/>
            </a:b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FORMAT meghajtó: [/Q] [/1] [/4] [/8] [/B | /S] [/C]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A kapcsolók:</a:t>
            </a:r>
            <a:br>
              <a:rPr sz="14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/V[:címke] A kötetcímke megadása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/Q Gyorsformázás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/F:méret A formázandó hajlékonylemez mérete (pl. 160, 180, 320, 360, 720, 1,2, 1,44, 2,88).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/B Helyfoglalás a lemezen a rendszerfájlok számára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/S A rendszerfájlok másolása a formázott lemezre/T:sávA sávok száma oldalanként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/N:szektor A szektorok száma sávonként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/1 Egyoldalas hajlékonylemez formázása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/4 5.25''-es, 360 kB-os lemez formázása nagysűrűségű meghajtóban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/8 Sávonként nyolc szektor formázása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/C A jelenleg rossznak megjelölt szektorcsoportok tesztelése</a:t>
            </a:r>
            <a:br>
              <a:rPr sz="14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8541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Megjegyzés: </a:t>
            </a:r>
            <a:br>
              <a:rPr sz="1600"/>
            </a:br>
            <a:br>
              <a:rPr sz="16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Formázáskor az adott lemezről minden adat elvész! </a:t>
            </a:r>
            <a:br>
              <a:rPr sz="14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Gyakorláshoz javasolt, hogy egy floppylemezen gyakorolj! </a:t>
            </a:r>
            <a:br>
              <a:rPr sz="1400"/>
            </a:br>
            <a:r>
              <a:rPr b="1" lang="hu-HU" sz="1400" spc="-1" strike="noStrike">
                <a:solidFill>
                  <a:srgbClr val="ffff66"/>
                </a:solidFill>
                <a:latin typeface="Arial"/>
              </a:rPr>
              <a:t>NE PRÓBÁLD KI A FORMAT C: PARANCSOT!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14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Ez ugyanis a wichestert formázza, és használhatatlanná teheti a számítógépet! 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ghajtó változtatás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Az aktuális meghajtó megváltoztatása: </a:t>
            </a:r>
            <a:br>
              <a:rPr sz="2400"/>
            </a:br>
            <a:r>
              <a:rPr b="1" lang="hu-HU" sz="2400" spc="-1" strike="noStrike">
                <a:solidFill>
                  <a:srgbClr val="ffff66"/>
                </a:solidFill>
                <a:latin typeface="Arial"/>
              </a:rPr>
              <a:t>meghajtónév:</a:t>
            </a: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Példák:</a:t>
            </a: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C:\&gt;a:</a:t>
            </a: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Eredmény:</a:t>
            </a: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A:\&gt;</a:t>
            </a:r>
            <a:br>
              <a:rPr sz="2400"/>
            </a:b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A:\&gt;c:</a:t>
            </a: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Eredmény:</a:t>
            </a: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C:\&gt;</a:t>
            </a:r>
            <a:br>
              <a:rPr sz="2400"/>
            </a:b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A:\&gt;a:</a:t>
            </a: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Eredmény:</a:t>
            </a: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A:\&gt;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önyvtárlista lekéré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66"/>
                </a:solidFill>
                <a:latin typeface="Arial"/>
              </a:rPr>
              <a:t>DIR</a:t>
            </a:r>
            <a:r>
              <a:rPr b="1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[meghajtó:][elérési út][fájlnév] [/P] [/W]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[/A[[:]attribútumok]] [/O[[:]rendezés]] [/S] [/B] [/L] [/V] 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[/4] [meghajtó:][útvonal][fájlnév] 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Megadja a listázandó meghajtót, könyvtárat, illetve 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fájlokat. ( Lehet bővített fájlmegadás vagy több fájl 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megadása is.)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/P Várakozás minden képernyő után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/W Széles listázási formátum használata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/A A megadott attribútumú fájl  megjelenítése  attribútumok 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D Könyvtárak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R Írásvédett fájlok 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H Rejtett fájlok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A Archiválandó fájlok 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S Rendszerfájlok-logikai NEM előtag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/O A fájlok rendezett sorrendű listázása  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rendezés :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N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Név szerint (ábécérendben) 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Méret szerint (előbb a kisebbek) 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Kiterjesztés szerint (ábécérendben) 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D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Dátum és idő szerint (előbb a korábbiak) 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G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Előbb a csoportkönyvtárak 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Fordított sorrend (előtag) 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A legutóbbi hozzáférés szerint (előbb a korábbiak)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/S Adott könyvtárban és alkönyvtáraiban lévő fájlok megjelenítése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/B Egyszerű formátum (fejléc és összegzés nélkül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/L Kisbetűk használata 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/V Részletes mód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/4négyjegyű évszámok (/V -vel együtt hatástalan).</a:t>
            </a:r>
            <a:br>
              <a:rPr sz="1400"/>
            </a:b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önyvtárlista lekéré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Példák: </a:t>
            </a:r>
            <a:br>
              <a:rPr sz="1200"/>
            </a:br>
            <a:br>
              <a:rPr sz="1200"/>
            </a:b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C:\&gt;DIR</a:t>
            </a:r>
            <a:br>
              <a:rPr sz="1200"/>
            </a:b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Eredmény:</a:t>
            </a:r>
            <a:br>
              <a:rPr sz="1200"/>
            </a:b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A(z) C meghajtóban lévő kötetnek nincs címkéje. </a:t>
            </a:r>
            <a:br>
              <a:rPr sz="1200"/>
            </a:br>
            <a:br>
              <a:rPr sz="1200"/>
            </a:b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A kötet sorozatszáma: 2328-12D7 </a:t>
            </a:r>
            <a:br>
              <a:rPr sz="1200"/>
            </a:br>
            <a:br>
              <a:rPr sz="1200"/>
            </a:b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C:\ könyvtára </a:t>
            </a:r>
            <a:br>
              <a:rPr sz="1200"/>
            </a:br>
            <a:br>
              <a:rPr sz="1000"/>
            </a:b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ALKALM~1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&lt;DIR&gt;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01.07.28 16.36 Alkalmazások és segédprogramok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AUDIO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&lt;DIR&gt;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01.08.26 16.07 audio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COREL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&lt;DIR&gt;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01.07.28 15.00 Corel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DOKUME~1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&lt;DIR&gt;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01.07.28 11.30 Dokumentumok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DOLGOZ~1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&lt;DIR&gt;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01.10.07 12.11 Dolgozat számítástecnika 2001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DOWNLOAD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&lt;DIR&gt;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01.07.30 18.38 Download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MYMUSI~1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&lt;DIR&gt;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01.07.28 14.20 My Music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PROGRA~1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&lt;DIR&gt;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01.07.28 11.10 Program Files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TEMP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&lt;DIR&gt;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01.07.28 15.07 TEMP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UNZIPPED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&lt;DIR&gt;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01.07.31 11.23 unzipped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WINCMD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&lt;DIR&gt;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01.07.28 14.24 wincmd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WINDOWS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&lt;DIR&gt;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01.07.28 11.10 WINDOWS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ASYCFILT DLL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131 072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98.05.11 20.01 Asycfilt.dll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AUTOEXEC BAT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317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01.10.07 12.36 AUTOEXEC.BAT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AUTOEXEC DOS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353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01.08.01 17.01 AUTOEXEC.DOS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AUTOEXEC NAV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315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01.09.03 19.02 autoexec.nav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AUTOEXEC NU4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215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01.07.28 14.31 AUTOEXEC.NU4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AX17VSC EXE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375 296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00.04.13 17.40 ax17vsc.exe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…</a:t>
            </a:r>
            <a:r>
              <a:rPr b="0" lang="hu-HU" sz="1200" spc="-1" strike="noStrike">
                <a:solidFill>
                  <a:srgbClr val="ffff66"/>
                </a:solidFill>
                <a:latin typeface="Arial"/>
              </a:rPr>
              <a:t>STB  </a:t>
            </a:r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önyvtár létrehozás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Arial"/>
              </a:rPr>
              <a:t>MKDIR könyvtárnév </a:t>
            </a:r>
            <a:br>
              <a:rPr sz="2400"/>
            </a:br>
            <a:r>
              <a:rPr b="1" lang="hu-HU" sz="2400" spc="-1" strike="noStrike">
                <a:solidFill>
                  <a:srgbClr val="ffff66"/>
                </a:solidFill>
                <a:latin typeface="Arial"/>
              </a:rPr>
              <a:t>MD könyvtárnév</a:t>
            </a: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Példák:</a:t>
            </a:r>
            <a:br>
              <a:rPr sz="2400"/>
            </a:b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C:\&gt;MD KONYVTAR</a:t>
            </a: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Eredmény:</a:t>
            </a: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Létrejön egy KONYVTAR nevű könyvtár a C: meghajtó gyökérkönyvtárában</a:t>
            </a:r>
            <a:br>
              <a:rPr sz="2400"/>
            </a:b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C:\MD A:\KT</a:t>
            </a: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Eredmény:</a:t>
            </a:r>
            <a:br>
              <a:rPr sz="2400"/>
            </a:b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Létrejön egy KT nevű könyvtár az A: meghajtóba helyezett floppylemezen.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önyvtárváltá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66"/>
                </a:solidFill>
                <a:latin typeface="Arial"/>
              </a:rPr>
              <a:t>CHDIR könyvtárnév</a:t>
            </a:r>
            <a:r>
              <a:rPr b="1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Belép a könyvtárnév nevű könyvtárba (ha van!)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66"/>
                </a:solidFill>
                <a:latin typeface="Arial"/>
              </a:rPr>
              <a:t>CD könyvtárnév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66"/>
                </a:solidFill>
                <a:latin typeface="Arial"/>
              </a:rPr>
              <a:t>CHDIR ..</a:t>
            </a:r>
            <a:r>
              <a:rPr b="1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hu-H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Visszalép egy könyvtárnyit (ha van honnan!)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66"/>
                </a:solidFill>
                <a:latin typeface="Arial"/>
              </a:rPr>
              <a:t>CD ..</a:t>
            </a:r>
            <a:br>
              <a:rPr sz="14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 </a:t>
            </a:r>
            <a:br>
              <a:rPr sz="14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Példák:</a:t>
            </a:r>
            <a:br>
              <a:rPr sz="1400"/>
            </a:br>
            <a:br>
              <a:rPr sz="14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C:\&gt;CD WINDOWS</a:t>
            </a:r>
            <a:br>
              <a:rPr sz="14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Eredmény:</a:t>
            </a:r>
            <a:br>
              <a:rPr sz="14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C:\WINDOWS&gt;</a:t>
            </a:r>
            <a:br>
              <a:rPr sz="1400"/>
            </a:br>
            <a:br>
              <a:rPr sz="14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C:\&gt;CD A:\KT</a:t>
            </a:r>
            <a:br>
              <a:rPr sz="14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C:\&gt;a:</a:t>
            </a:r>
            <a:br>
              <a:rPr sz="14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Eredmény:</a:t>
            </a:r>
            <a:br>
              <a:rPr sz="14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A:\KT&gt;</a:t>
            </a:r>
            <a:br>
              <a:rPr sz="1400"/>
            </a:br>
            <a:br>
              <a:rPr sz="14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C:\WINDOWS&gt;CD ..</a:t>
            </a:r>
            <a:br>
              <a:rPr sz="14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Eredmény:</a:t>
            </a:r>
            <a:br>
              <a:rPr sz="14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C:\&gt;</a:t>
            </a:r>
            <a:br>
              <a:rPr sz="1400"/>
            </a:br>
            <a:br>
              <a:rPr sz="14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C:\WINDOWS\SYSTEM&gt;CD\</a:t>
            </a:r>
            <a:br>
              <a:rPr sz="14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Eredmény:</a:t>
            </a:r>
            <a:br>
              <a:rPr sz="1400"/>
            </a:br>
            <a:r>
              <a:rPr b="0" lang="hu-HU" sz="1400" spc="-1" strike="noStrike">
                <a:solidFill>
                  <a:srgbClr val="ffff66"/>
                </a:solidFill>
                <a:latin typeface="Arial"/>
              </a:rPr>
              <a:t>C:\&gt; 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önyvtár törlés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Arial"/>
              </a:rPr>
              <a:t>RMDIR könyvtárnév</a:t>
            </a:r>
            <a:br>
              <a:rPr sz="2800"/>
            </a:br>
            <a:r>
              <a:rPr b="1" lang="hu-HU" sz="2800" spc="-1" strike="noStrike">
                <a:solidFill>
                  <a:srgbClr val="ffff66"/>
                </a:solidFill>
                <a:latin typeface="Arial"/>
              </a:rPr>
              <a:t>RD könyvtárnév</a:t>
            </a:r>
            <a:br>
              <a:rPr sz="2800"/>
            </a:br>
            <a:br>
              <a:rPr sz="2800"/>
            </a:br>
            <a:r>
              <a:rPr b="0" lang="hu-HU" sz="2800" spc="-1" strike="noStrike">
                <a:solidFill>
                  <a:srgbClr val="ffff66"/>
                </a:solidFill>
                <a:latin typeface="Arial"/>
              </a:rPr>
              <a:t>Kitöröl egy könyvtárat. Csak üres könyvtár törölhető!</a:t>
            </a:r>
            <a:br>
              <a:rPr sz="2800"/>
            </a:br>
            <a:br>
              <a:rPr sz="2800"/>
            </a:br>
            <a:r>
              <a:rPr b="0" lang="hu-HU" sz="2800" spc="-1" strike="noStrike">
                <a:solidFill>
                  <a:srgbClr val="ffff66"/>
                </a:solidFill>
                <a:latin typeface="Arial"/>
              </a:rPr>
              <a:t>Példa:</a:t>
            </a:r>
            <a:br>
              <a:rPr sz="2800"/>
            </a:br>
            <a:br>
              <a:rPr sz="2800"/>
            </a:br>
            <a:r>
              <a:rPr b="0" lang="hu-HU" sz="2800" spc="-1" strike="noStrike">
                <a:solidFill>
                  <a:srgbClr val="ffff66"/>
                </a:solidFill>
                <a:latin typeface="Arial"/>
              </a:rPr>
              <a:t>A:\&gt;RD KT</a:t>
            </a:r>
            <a:br>
              <a:rPr sz="2800"/>
            </a:br>
            <a:br>
              <a:rPr sz="2800"/>
            </a:br>
            <a:r>
              <a:rPr b="0" lang="hu-HU" sz="2800" spc="-1" strike="noStrike">
                <a:solidFill>
                  <a:srgbClr val="ffff66"/>
                </a:solidFill>
                <a:latin typeface="Arial"/>
              </a:rPr>
              <a:t>C:\&gt;RD A:\KT</a:t>
            </a:r>
            <a:br>
              <a:rPr sz="2800"/>
            </a:br>
            <a:r>
              <a:rPr b="0" lang="hu-HU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0:31:52Z</dcterms:created>
  <dc:creator>Nagymáté Péter</dc:creator>
  <dc:description/>
  <dc:language>en-US</dc:language>
  <cp:lastModifiedBy>Nagymáté Péter</cp:lastModifiedBy>
  <dcterms:modified xsi:type="dcterms:W3CDTF">2003-09-25T11:34:44Z</dcterms:modified>
  <cp:revision>4</cp:revision>
  <dc:subject/>
  <dc:title>DOS</dc:title>
</cp:coreProperties>
</file>